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76DB-EA41-415C-9D75-D9EB61108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0BD6-A262-439C-A154-277A1833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4F15-7E57-4562-AE4E-2BD62D0B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A801-C0CB-4697-833E-088402CF3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04A2-4189-4120-9036-6525EC9AF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45A1-F512-44EF-A883-EC22282DC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AA86-EB9D-49C2-A16A-82E9DF9E4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8C47-3B8E-4B0A-9455-D9A16CC4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09CC-F616-4440-8E5B-2C40ADBA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332A-39B4-455F-9AB3-7B7A5230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97E8-55D0-47FF-A876-0E24A5515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4C60-F0DF-4651-A268-B35600E8C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DF06-24EA-435A-AEA2-4078E2044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4649-22BD-4866-B9E1-4C1A64EE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F25E-6DBD-42D5-A8DB-732EDFF3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6D59-A04B-4CC0-84A5-E22A525A2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A622-63D4-41E7-BEF4-171107D34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A4EB-F834-4664-BC71-151FFFF36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F683-E728-419C-9A47-41433987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A347-D2EA-425A-B163-3836B457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2A36-DF1E-4CD3-92CD-F03CD1FF7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82F8-058B-4BE8-A7BE-0530E1113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2575-76A9-4899-B1B1-A63FD58B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9299-E669-42E9-B08F-6F496450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E830-63BF-41C8-A543-BE8D26184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0C5B-2908-43A4-B152-D1CE3AED9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F8C5-32D6-4064-B531-7010F21C4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75A-DFD5-41D1-9B4E-0231502D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A10-9F07-42F4-8966-E132E7A9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D0D-607A-46DA-914C-98993E94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50D-1496-49EF-9F46-331C40FD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076-0B05-4C3A-BC01-14AA7C94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7EF-5C4F-4D86-B56E-262C569F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957-58E1-42AF-A06A-3A5FF579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40F-E80C-44F2-8DAA-F04328F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6CF-7FEA-4B1A-A82A-30E3B4CF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214-A2D7-4C2B-9201-AC6A4792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924-3FED-456C-B28E-8398828C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963-DDAB-4583-BA40-76BD6CAE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6A1E-66A7-438F-A97D-70D88EC71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905120" y="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formations 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apes in 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 LOVE GEO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kings are 4-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Z - Z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905120" y="2209680"/>
            <a:ext cx="2286000" cy="21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2209680"/>
            <a:ext cx="2286000" cy="2203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2286000" cy="216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648320" y="4572000"/>
            <a:ext cx="2209680" cy="213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3962520" y="609480"/>
            <a:ext cx="121896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5867280" y="1295280"/>
            <a:ext cx="1905120" cy="64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74840" y="376848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04920"/>
            <a:ext cx="746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glide reflection image of the upper right triangle for the glide of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8360" y="1371600"/>
            <a:ext cx="1957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flection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88000" y="1827360"/>
            <a:ext cx="809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line of symmetry for the grap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(x-2)^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33520" y="76212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st all scale factors that would result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d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st all scale factors that would result in an enlargemen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3080" y="548640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143000" y="762120"/>
            <a:ext cx="70660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ight figure is an isometry of the left figure. Tell whether their orientations are the same or opposite. Then classify the isome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743200" y="1752480"/>
            <a:ext cx="3352680" cy="1687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294200" y="1979640"/>
            <a:ext cx="6215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the type of symmetry for the fig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362320" y="2666880"/>
            <a:ext cx="3733560" cy="3157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83800" y="60958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330200" y="2055960"/>
            <a:ext cx="65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mplify the following expres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– 3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7xy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3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524960" y="1752480"/>
            <a:ext cx="628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for 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(2 – x) + 5x = 2x + 7 – 3(3x –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57200" y="1584360"/>
            <a:ext cx="8464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lines of symmetry does the figure hav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66880" y="3048120"/>
            <a:ext cx="3886200" cy="259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733920" y="4267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257440" y="42670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12400" y="60199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330200" y="2131920"/>
            <a:ext cx="65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mplify the following expres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(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4) – 3x + 2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–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95280" y="457200"/>
            <a:ext cx="67057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308240" y="1066680"/>
                <a:ext cx="670536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num>
                                <m:den>
                                  <m:r>
                                    <m:t xml:space="preserve">7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523880" y="4876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1720" y="4343400"/>
            <a:ext cx="47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value of x and 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3080" y="548640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80880" y="2057400"/>
            <a:ext cx="8151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ertices of a triangle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–2, –4)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, –5),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–1, –8). Name the vertices of the image reflected i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533520" y="114300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riend’s math test contained 42 questions, some of which were worth two points while the rest were worth three points.  Your friend tells you that a perfect score is 100 points, but she cannot remember how many of each type (2 point or 3 point) were on the t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your friend out:  how many of each type were on the t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61160" y="685800"/>
            <a:ext cx="765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the following system of equ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2x –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y + 5x =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190512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e Symmetry is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always, sometimes, never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flectional Sym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71600" y="1371600"/>
            <a:ext cx="647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H has endpoints G(-3, 2) and H(3, -2).  Find the coordinates of the midpoint of 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1447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276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81080" y="1752480"/>
            <a:ext cx="533412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676520" y="1752480"/>
            <a:ext cx="5333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9091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y + 20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360" y="380880"/>
            <a:ext cx="74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value of y given the picture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64760" y="290916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5y – 16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3520" y="12952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d the distance between points X and 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(-3, -4)        Y(5,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57400" y="129528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ice an angle is 5 more than its compl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measure of the 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905120" y="914400"/>
            <a:ext cx="4876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the diagram, the dashed figure is the image of the solid fig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the image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905120" y="1905120"/>
            <a:ext cx="4419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377000" y="106668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image of the figure after a reflection in lin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lin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4080" y="1828800"/>
            <a:ext cx="312444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7960" y="6019920"/>
            <a:ext cx="26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68240" y="838080"/>
            <a:ext cx="72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one flag a translation image or rotation image of the other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895480" y="22096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55200" y="59436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049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scalar multiplication to find the image vertices for a dilation with center (0, 0) an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e factor of ½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54480" y="601992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133720" y="304920"/>
            <a:ext cx="510516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the translation image of triangle ABC after a reflection over l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a reflection over line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828800" y="1828800"/>
            <a:ext cx="609588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35720" y="586728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1371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tational Symmetry i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ways, sometimes, never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oint Sym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12400" y="54864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819520" y="4191120"/>
            <a:ext cx="25905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75240" y="1752480"/>
            <a:ext cx="16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trix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38280" y="1447920"/>
            <a:ext cx="30481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14600" y="1676520"/>
                <a:ext cx="2819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414760" y="19051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s triangle 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429000"/>
            <a:ext cx="7010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oordinates of the vertices of the image A’ B’ C’, after multiplying the transformation matrix below by the matrix abo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95480" y="4191120"/>
                <a:ext cx="236232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231000" y="6110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Rachel Livengood</cp:lastModifiedBy>
  <dcterms:modified xsi:type="dcterms:W3CDTF">2009-10-07T02:59:43Z</dcterms:modified>
  <cp:revision>26</cp:revision>
  <dc:subject/>
  <dc:title>Slide 1</dc:title>
</cp:coreProperties>
</file>